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CE6-6685-4C87-BB90-8AE6B6C8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FBD-A078-4BB2-B183-3E227279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FAA-35D2-4E3D-8211-235828DD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EC1-A137-404B-95FA-45E66CD6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21F-6228-42CB-8F65-24E9E038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1C4-BA56-4C45-9077-07B43173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681-337E-4C98-AA60-D9F63558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CBD-D2BC-4BF4-B67C-5D9EA582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4DE-D4E0-4AFB-8002-50E09F0A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E94-2E62-4381-AC7D-7311A83B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743-FB48-4B8A-B4A4-EBCF0F25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3B5-F320-4D51-8D18-174E5B12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3581C-24B9-41F6-835B-81732CBCD5A9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85680" y="3495600"/>
            <a:ext cx="2889360" cy="208080"/>
            <a:chOff x="85680" y="3495600"/>
            <a:chExt cx="2889360" cy="208080"/>
          </a:xfrm>
        </p:grpSpPr>
        <p:pic>
          <p:nvPicPr>
            <p:cNvPr id="44" name="Picture 2" descr=""/>
            <p:cNvPicPr/>
            <p:nvPr/>
          </p:nvPicPr>
          <p:blipFill>
            <a:blip r:embed="rId2"/>
            <a:stretch/>
          </p:blipFill>
          <p:spPr>
            <a:xfrm>
              <a:off x="85680" y="3495600"/>
              <a:ext cx="212688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Imagen 6" descr=""/>
            <p:cNvPicPr/>
            <p:nvPr/>
          </p:nvPicPr>
          <p:blipFill>
            <a:blip r:embed="rId3"/>
            <a:stretch/>
          </p:blipFill>
          <p:spPr>
            <a:xfrm>
              <a:off x="2278440" y="3562920"/>
              <a:ext cx="696600" cy="6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6-11T13:32:36Z</dcterms:modified>
  <cp:revision>6</cp:revision>
  <dc:subject/>
  <dc:title>PowerPoint Presentation</dc:title>
</cp:coreProperties>
</file>